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C612-9074-4462-8F56-25184DE2B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7099-0BFF-4504-8C26-0AF39FED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0FAA-747A-4622-92DD-21C9D4397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F0F3-517F-43E7-B4D4-053431B91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256E-EF69-4AE7-AE35-4B0595F0D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9D0B-A742-491C-B749-61618C0E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4780-637B-4AF4-8901-7E5B156A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55E5-4ADD-4958-9F70-947E1744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26C0-D39B-4732-9E71-C2A711A6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FCB5-A9D5-4A78-B70D-AE320D40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89AE-525D-4D7D-ADE0-A2FEF358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2BAE-28C5-4D40-87D4-96EF324C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7ADEC-150E-4205-AA77-72160457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2A6B-1383-4B4C-BEA5-C3E334E0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342A-8D1A-4727-BBEB-4F16E9A7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D18A-D093-4333-A307-627EB3A79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B1F5-D3F2-43C7-897B-A1BA2C86B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816824-C38E-4B3A-BCAF-03E48409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9C3222-5BD2-4AF1-A624-AE99AB82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9DB914-C220-4DFE-892D-B610830A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CCC9E5-564D-46E5-B895-E12073D1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DAF297-AF66-460F-B598-055AE4AF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91D2-4D07-4EDF-955F-AF660423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CDF83C-4253-43DA-8408-92BED892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1D80C2-B3E7-4BA1-892F-B0FC7C81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9FAA50-6779-4874-B2B4-79D851C8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346ABA-F39E-411F-9D0F-0A5B977B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05C3B0-A39B-4C65-B111-12386265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0ED2BF-8FD5-4029-8237-C2110F317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B5437B-2900-487F-9BA7-C563DD928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2B8E9-4A28-43B7-A287-CE9547DAC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23FA7-5077-4CA5-AFAC-D488580F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1A175-4554-44D7-BC07-DE90BD46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6331-BA5C-446F-B682-08DB6873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84DD7-2977-4068-A114-885A9FE7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879EA-4253-49CA-81B7-3FE45A03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AEB95-D4FA-4DBD-A61C-7CFF4542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6E325-F87F-4963-AD0D-026E705E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FCC29-844C-4E02-B1DF-9F82609B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F7CC1-F1B6-431B-87D4-C9C2559C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AD79C-C9FC-40E7-930B-DC207AE3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CCF6C-90D4-4B17-BB5F-4F4F9CA33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436AA-3011-4C22-9B18-F770E1A5D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19AE-F4A0-46DD-98B8-FD2B0320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01E3-04E1-44AF-B64F-2C5CAF81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1FC3-151C-4722-B12C-FE2988FA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FAF9-06AD-4BEF-B8ED-9F8E885F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8E01-6FFF-44F9-88AB-42D8ABFB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A0AE-84A8-4D97-831F-A75092E8C426}" type="slidenum"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rostokąt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rostokąt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rostokąt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rostokąt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rostokąt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rostokąt zaokrąglony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rostokąt zaokrąglony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rostokąt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rostokąt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rostokąt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rostokąt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C210-D6EE-4F2C-B726-44693AF04E92}" type="slidenum"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A169-5A35-41CF-8B43-3435227E5C66}" type="slidenum"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A0F7-F49E-418E-A59D-CC363D0EB06B}" type="slidenum"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rebuchet MS"/>
              </a:rPr>
              <a:t>Odejmowanie pisemne</a:t>
            </a:r>
            <a:br>
              <a:rPr sz="4400"/>
            </a:b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424456"/>
              </a:solidFill>
              <a:latin typeface="Georgia"/>
            </a:endParaRPr>
          </a:p>
        </p:txBody>
      </p:sp>
      <p:grpSp>
        <p:nvGrpSpPr>
          <p:cNvPr id="216" name="Grupa 4"/>
          <p:cNvGrpSpPr/>
          <p:nvPr/>
        </p:nvGrpSpPr>
        <p:grpSpPr>
          <a:xfrm>
            <a:off x="471600" y="5157720"/>
            <a:ext cx="8346960" cy="1247760"/>
            <a:chOff x="471600" y="5157720"/>
            <a:chExt cx="8346960" cy="1247760"/>
          </a:xfrm>
        </p:grpSpPr>
        <p:pic>
          <p:nvPicPr>
            <p:cNvPr id="217" name="Obraz 5" descr=""/>
            <p:cNvPicPr/>
            <p:nvPr/>
          </p:nvPicPr>
          <p:blipFill>
            <a:blip r:embed="rId1"/>
            <a:stretch/>
          </p:blipFill>
          <p:spPr>
            <a:xfrm>
              <a:off x="471600" y="5336280"/>
              <a:ext cx="1013040" cy="1069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8" name="Grupa 6"/>
            <p:cNvGrpSpPr/>
            <p:nvPr/>
          </p:nvGrpSpPr>
          <p:grpSpPr>
            <a:xfrm>
              <a:off x="1490040" y="5393880"/>
              <a:ext cx="660600" cy="884160"/>
              <a:chOff x="1490040" y="5393880"/>
              <a:chExt cx="660600" cy="884160"/>
            </a:xfrm>
          </p:grpSpPr>
          <p:pic>
            <p:nvPicPr>
              <p:cNvPr id="219" name="Obraz 15" descr=""/>
              <p:cNvPicPr/>
              <p:nvPr/>
            </p:nvPicPr>
            <p:blipFill>
              <a:blip r:embed="rId2"/>
              <a:srcRect l="13908" t="0" r="16795" b="0"/>
              <a:stretch/>
            </p:blipFill>
            <p:spPr>
              <a:xfrm>
                <a:off x="1490040" y="5393880"/>
                <a:ext cx="660600" cy="88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Elipsa 16"/>
              <p:cNvSpPr/>
              <p:nvPr/>
            </p:nvSpPr>
            <p:spPr>
              <a:xfrm>
                <a:off x="1757160" y="5459040"/>
                <a:ext cx="41040" cy="36360"/>
              </a:xfrm>
              <a:prstGeom prst="ellipse">
                <a:avLst/>
              </a:prstGeom>
              <a:solidFill>
                <a:srgbClr val="53548a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21" name="Elipsa 17"/>
              <p:cNvSpPr/>
              <p:nvPr/>
            </p:nvSpPr>
            <p:spPr>
              <a:xfrm>
                <a:off x="1863720" y="5527440"/>
                <a:ext cx="42840" cy="36360"/>
              </a:xfrm>
              <a:prstGeom prst="ellipse">
                <a:avLst/>
              </a:prstGeom>
              <a:solidFill>
                <a:srgbClr val="53548a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222" name="Obraz 7" descr=""/>
            <p:cNvPicPr/>
            <p:nvPr/>
          </p:nvPicPr>
          <p:blipFill>
            <a:blip r:embed="rId3"/>
            <a:stretch/>
          </p:blipFill>
          <p:spPr>
            <a:xfrm>
              <a:off x="2208240" y="5235120"/>
              <a:ext cx="695520" cy="6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Obraz 8" descr=""/>
            <p:cNvPicPr/>
            <p:nvPr/>
          </p:nvPicPr>
          <p:blipFill>
            <a:blip r:embed="rId4"/>
            <a:stretch/>
          </p:blipFill>
          <p:spPr>
            <a:xfrm>
              <a:off x="7063920" y="5269680"/>
              <a:ext cx="1034640" cy="95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Obraz 9" descr=""/>
            <p:cNvPicPr/>
            <p:nvPr/>
          </p:nvPicPr>
          <p:blipFill>
            <a:blip r:embed="rId5"/>
            <a:stretch/>
          </p:blipFill>
          <p:spPr>
            <a:xfrm>
              <a:off x="4623840" y="5513760"/>
              <a:ext cx="879840" cy="81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Obraz 10" descr=""/>
            <p:cNvPicPr/>
            <p:nvPr/>
          </p:nvPicPr>
          <p:blipFill>
            <a:blip r:embed="rId6"/>
            <a:stretch/>
          </p:blipFill>
          <p:spPr>
            <a:xfrm>
              <a:off x="3771360" y="5235120"/>
              <a:ext cx="948960" cy="88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Obraz 11" descr=""/>
            <p:cNvPicPr/>
            <p:nvPr/>
          </p:nvPicPr>
          <p:blipFill>
            <a:blip r:embed="rId7"/>
            <a:stretch/>
          </p:blipFill>
          <p:spPr>
            <a:xfrm>
              <a:off x="7777800" y="5336280"/>
              <a:ext cx="1040760" cy="96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Obraz 12" descr=""/>
            <p:cNvPicPr/>
            <p:nvPr/>
          </p:nvPicPr>
          <p:blipFill>
            <a:blip r:embed="rId8"/>
            <a:stretch/>
          </p:blipFill>
          <p:spPr>
            <a:xfrm>
              <a:off x="6117840" y="5292720"/>
              <a:ext cx="115560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Obraz 13" descr=""/>
            <p:cNvPicPr/>
            <p:nvPr/>
          </p:nvPicPr>
          <p:blipFill>
            <a:blip r:embed="rId9"/>
            <a:stretch/>
          </p:blipFill>
          <p:spPr>
            <a:xfrm>
              <a:off x="5250960" y="5157720"/>
              <a:ext cx="115560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Obraz 14" descr=""/>
            <p:cNvPicPr/>
            <p:nvPr/>
          </p:nvPicPr>
          <p:blipFill>
            <a:blip r:embed="rId10"/>
            <a:stretch/>
          </p:blipFill>
          <p:spPr>
            <a:xfrm>
              <a:off x="2812680" y="5271120"/>
              <a:ext cx="117396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0" name="Prostokąt 18" descr=""/>
          <p:cNvPicPr/>
          <p:nvPr/>
        </p:nvPicPr>
        <p:blipFill>
          <a:blip r:embed="rId11"/>
          <a:stretch/>
        </p:blipFill>
        <p:spPr>
          <a:xfrm>
            <a:off x="6735600" y="2571840"/>
            <a:ext cx="20844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7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5472000" y="765000"/>
            <a:ext cx="3495960" cy="1671840"/>
          </a:xfrm>
          <a:prstGeom prst="rect">
            <a:avLst/>
          </a:prstGeom>
          <a:ln w="0">
            <a:noFill/>
          </a:ln>
        </p:spPr>
      </p:pic>
      <p:pic>
        <p:nvPicPr>
          <p:cNvPr id="232" name="Obraz 5" descr=""/>
          <p:cNvPicPr/>
          <p:nvPr/>
        </p:nvPicPr>
        <p:blipFill>
          <a:blip r:embed="rId2"/>
          <a:srcRect l="35875" t="22486" r="2451" b="3104"/>
          <a:stretch/>
        </p:blipFill>
        <p:spPr>
          <a:xfrm>
            <a:off x="5708520" y="2492280"/>
            <a:ext cx="3338640" cy="405288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505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Odejmowanie liczb dwucyfrowych</a:t>
            </a: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Wykonaj odejmowanie: </a:t>
            </a:r>
            <a:r>
              <a:rPr b="1" lang="pl-PL" sz="2400" spc="-1" strike="noStrike">
                <a:solidFill>
                  <a:srgbClr val="424456"/>
                </a:solidFill>
                <a:latin typeface="Trebuchet MS"/>
              </a:rPr>
              <a:t>78 - 23</a:t>
            </a:r>
            <a:br>
              <a:rPr sz="24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4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1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wpisujemy liczbę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7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2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podpisujemy liczbę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3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pod liczbą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78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jedności drugiej liczby pod jednościami pierwszej liczby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dziesiątki drugiej liczby pod dziesiątkami pierwszej liczby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3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odejmujemy jedności: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8 – 3 = 5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 różnicy w rzędzie jedności pisze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5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4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odejmujemy dziesiątki: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7 – 2 = 5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 różnicy w rzędzie dziesiątek pisze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Poprawność wykonanego odejmowania sprawdzamy za pomocą dodawania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Suma liczb </a:t>
            </a:r>
            <a:r>
              <a:rPr b="1" lang="pl-PL" sz="1800" spc="-1" strike="noStrike">
                <a:solidFill>
                  <a:srgbClr val="000000"/>
                </a:solidFill>
                <a:latin typeface="Georgia"/>
              </a:rPr>
              <a:t>55 + 23 = 78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ole tekstowe 6"/>
          <p:cNvSpPr/>
          <p:nvPr/>
        </p:nvSpPr>
        <p:spPr>
          <a:xfrm>
            <a:off x="7161840" y="270828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7 8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ole tekstowe 7"/>
          <p:cNvSpPr/>
          <p:nvPr/>
        </p:nvSpPr>
        <p:spPr>
          <a:xfrm>
            <a:off x="7161840" y="29163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2 3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37" name="Grupa 24"/>
          <p:cNvGrpSpPr/>
          <p:nvPr/>
        </p:nvGrpSpPr>
        <p:grpSpPr>
          <a:xfrm>
            <a:off x="6875640" y="2860560"/>
            <a:ext cx="1081080" cy="398880"/>
            <a:chOff x="6875640" y="2860560"/>
            <a:chExt cx="1081080" cy="398880"/>
          </a:xfrm>
        </p:grpSpPr>
        <p:sp>
          <p:nvSpPr>
            <p:cNvPr id="238" name="Łącznik prostoliniowy 9"/>
            <p:cNvSpPr/>
            <p:nvPr/>
          </p:nvSpPr>
          <p:spPr>
            <a:xfrm>
              <a:off x="6875640" y="321336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9" name="pole tekstowe 11"/>
            <p:cNvSpPr/>
            <p:nvPr/>
          </p:nvSpPr>
          <p:spPr>
            <a:xfrm>
              <a:off x="6958800" y="2860560"/>
              <a:ext cx="2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40" name="Grupa 25"/>
          <p:cNvGrpSpPr/>
          <p:nvPr/>
        </p:nvGrpSpPr>
        <p:grpSpPr>
          <a:xfrm>
            <a:off x="6875640" y="3573360"/>
            <a:ext cx="1081080" cy="582480"/>
            <a:chOff x="6875640" y="3573360"/>
            <a:chExt cx="1081080" cy="582480"/>
          </a:xfrm>
        </p:grpSpPr>
        <p:sp>
          <p:nvSpPr>
            <p:cNvPr id="241" name="pole tekstowe 12"/>
            <p:cNvSpPr/>
            <p:nvPr/>
          </p:nvSpPr>
          <p:spPr>
            <a:xfrm>
              <a:off x="7161840" y="357336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7 8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2" name="pole tekstowe 13"/>
            <p:cNvSpPr/>
            <p:nvPr/>
          </p:nvSpPr>
          <p:spPr>
            <a:xfrm>
              <a:off x="7161840" y="378756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2 3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3" name="Łącznik prostoliniowy 14"/>
            <p:cNvSpPr/>
            <p:nvPr/>
          </p:nvSpPr>
          <p:spPr>
            <a:xfrm>
              <a:off x="6875640" y="407844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4" name="pole tekstowe 15"/>
            <p:cNvSpPr/>
            <p:nvPr/>
          </p:nvSpPr>
          <p:spPr>
            <a:xfrm>
              <a:off x="6958800" y="3724560"/>
              <a:ext cx="2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45" name="pole tekstowe 16"/>
          <p:cNvSpPr/>
          <p:nvPr/>
        </p:nvSpPr>
        <p:spPr>
          <a:xfrm>
            <a:off x="7352280" y="4005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46" name="Grupa 3"/>
          <p:cNvGrpSpPr/>
          <p:nvPr/>
        </p:nvGrpSpPr>
        <p:grpSpPr>
          <a:xfrm>
            <a:off x="6872400" y="4805280"/>
            <a:ext cx="1081080" cy="585720"/>
            <a:chOff x="6872400" y="4805280"/>
            <a:chExt cx="1081080" cy="585720"/>
          </a:xfrm>
        </p:grpSpPr>
        <p:sp>
          <p:nvSpPr>
            <p:cNvPr id="247" name="pole tekstowe 17"/>
            <p:cNvSpPr/>
            <p:nvPr/>
          </p:nvSpPr>
          <p:spPr>
            <a:xfrm>
              <a:off x="7158600" y="480528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5 5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8" name="pole tekstowe 18"/>
            <p:cNvSpPr/>
            <p:nvPr/>
          </p:nvSpPr>
          <p:spPr>
            <a:xfrm>
              <a:off x="7165080" y="502272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2 3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9" name="Łącznik prostoliniowy 19"/>
            <p:cNvSpPr/>
            <p:nvPr/>
          </p:nvSpPr>
          <p:spPr>
            <a:xfrm>
              <a:off x="6872400" y="531036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50" name="pole tekstowe 20"/>
            <p:cNvSpPr/>
            <p:nvPr/>
          </p:nvSpPr>
          <p:spPr>
            <a:xfrm>
              <a:off x="6966000" y="4956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51" name="pole tekstowe 23"/>
          <p:cNvSpPr/>
          <p:nvPr/>
        </p:nvSpPr>
        <p:spPr>
          <a:xfrm>
            <a:off x="7155360" y="4005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52" name="Grupa 4"/>
          <p:cNvGrpSpPr/>
          <p:nvPr/>
        </p:nvGrpSpPr>
        <p:grpSpPr>
          <a:xfrm>
            <a:off x="7165080" y="5238720"/>
            <a:ext cx="496080" cy="368280"/>
            <a:chOff x="7165080" y="5238720"/>
            <a:chExt cx="496080" cy="368280"/>
          </a:xfrm>
        </p:grpSpPr>
        <p:sp>
          <p:nvSpPr>
            <p:cNvPr id="253" name="pole tekstowe 21"/>
            <p:cNvSpPr/>
            <p:nvPr/>
          </p:nvSpPr>
          <p:spPr>
            <a:xfrm>
              <a:off x="7349400" y="52387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54" name="pole tekstowe 26"/>
            <p:cNvSpPr/>
            <p:nvPr/>
          </p:nvSpPr>
          <p:spPr>
            <a:xfrm>
              <a:off x="7165080" y="52387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55" name="Elipsa 5"/>
          <p:cNvSpPr/>
          <p:nvPr/>
        </p:nvSpPr>
        <p:spPr>
          <a:xfrm>
            <a:off x="7380360" y="3573360"/>
            <a:ext cx="255600" cy="522360"/>
          </a:xfrm>
          <a:prstGeom prst="ellipse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Elipsa 27"/>
          <p:cNvSpPr/>
          <p:nvPr/>
        </p:nvSpPr>
        <p:spPr>
          <a:xfrm>
            <a:off x="7192800" y="3592440"/>
            <a:ext cx="255600" cy="522360"/>
          </a:xfrm>
          <a:prstGeom prst="ellipse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75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9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75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75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75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6" nodeType="afterEffect" fill="hold" presetClass="entr" presetID="2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40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75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75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1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3" nodeType="afterEffect" fill="hold" presetClass="entr" presetID="22" presetSubtype="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75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75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1" presetSubtype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67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" dur="75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75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75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81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75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5708520" y="2492280"/>
            <a:ext cx="3338640" cy="40528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5329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Ćwiczenie: </a:t>
            </a:r>
            <a:br>
              <a:rPr sz="2400"/>
            </a:b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wykonaj odejmowanie i sprawdź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547280" y="2249640"/>
            <a:ext cx="71391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343080">
              <a:lnSpc>
                <a:spcPct val="2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578 – 44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52520" indent="-343080">
              <a:lnSpc>
                <a:spcPct val="2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433 – 40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52520" indent="-343080">
              <a:lnSpc>
                <a:spcPct val="2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678 – 32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52520" indent="-343080">
              <a:lnSpc>
                <a:spcPct val="2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948 – 63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60" name="Grupa 18"/>
          <p:cNvGrpSpPr/>
          <p:nvPr/>
        </p:nvGrpSpPr>
        <p:grpSpPr>
          <a:xfrm>
            <a:off x="471600" y="5157720"/>
            <a:ext cx="8346960" cy="1247760"/>
            <a:chOff x="471600" y="5157720"/>
            <a:chExt cx="8346960" cy="1247760"/>
          </a:xfrm>
        </p:grpSpPr>
        <p:pic>
          <p:nvPicPr>
            <p:cNvPr id="261" name="Obraz 19" descr=""/>
            <p:cNvPicPr/>
            <p:nvPr/>
          </p:nvPicPr>
          <p:blipFill>
            <a:blip r:embed="rId2"/>
            <a:stretch/>
          </p:blipFill>
          <p:spPr>
            <a:xfrm>
              <a:off x="471600" y="5336280"/>
              <a:ext cx="1013040" cy="1069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2" name="Grupa 20"/>
            <p:cNvGrpSpPr/>
            <p:nvPr/>
          </p:nvGrpSpPr>
          <p:grpSpPr>
            <a:xfrm>
              <a:off x="1490040" y="5393880"/>
              <a:ext cx="660600" cy="884160"/>
              <a:chOff x="1490040" y="5393880"/>
              <a:chExt cx="660600" cy="884160"/>
            </a:xfrm>
          </p:grpSpPr>
          <p:pic>
            <p:nvPicPr>
              <p:cNvPr id="263" name="Obraz 33" descr=""/>
              <p:cNvPicPr/>
              <p:nvPr/>
            </p:nvPicPr>
            <p:blipFill>
              <a:blip r:embed="rId3"/>
              <a:srcRect l="13908" t="0" r="16795" b="0"/>
              <a:stretch/>
            </p:blipFill>
            <p:spPr>
              <a:xfrm>
                <a:off x="1490040" y="5393880"/>
                <a:ext cx="660600" cy="88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Elipsa 34"/>
              <p:cNvSpPr/>
              <p:nvPr/>
            </p:nvSpPr>
            <p:spPr>
              <a:xfrm>
                <a:off x="1757160" y="5459040"/>
                <a:ext cx="41040" cy="36360"/>
              </a:xfrm>
              <a:prstGeom prst="ellipse">
                <a:avLst/>
              </a:prstGeom>
              <a:solidFill>
                <a:srgbClr val="53548a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65" name="Elipsa 35"/>
              <p:cNvSpPr/>
              <p:nvPr/>
            </p:nvSpPr>
            <p:spPr>
              <a:xfrm>
                <a:off x="1863720" y="5527440"/>
                <a:ext cx="42840" cy="36360"/>
              </a:xfrm>
              <a:prstGeom prst="ellipse">
                <a:avLst/>
              </a:prstGeom>
              <a:solidFill>
                <a:srgbClr val="53548a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266" name="Obraz 21" descr=""/>
            <p:cNvPicPr/>
            <p:nvPr/>
          </p:nvPicPr>
          <p:blipFill>
            <a:blip r:embed="rId4"/>
            <a:stretch/>
          </p:blipFill>
          <p:spPr>
            <a:xfrm>
              <a:off x="2208240" y="5235120"/>
              <a:ext cx="695520" cy="6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Obraz 22" descr=""/>
            <p:cNvPicPr/>
            <p:nvPr/>
          </p:nvPicPr>
          <p:blipFill>
            <a:blip r:embed="rId5"/>
            <a:stretch/>
          </p:blipFill>
          <p:spPr>
            <a:xfrm>
              <a:off x="7063920" y="5269680"/>
              <a:ext cx="1034640" cy="95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Obraz 27" descr=""/>
            <p:cNvPicPr/>
            <p:nvPr/>
          </p:nvPicPr>
          <p:blipFill>
            <a:blip r:embed="rId6"/>
            <a:stretch/>
          </p:blipFill>
          <p:spPr>
            <a:xfrm>
              <a:off x="4623840" y="5513760"/>
              <a:ext cx="879840" cy="81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Obraz 28" descr=""/>
            <p:cNvPicPr/>
            <p:nvPr/>
          </p:nvPicPr>
          <p:blipFill>
            <a:blip r:embed="rId7"/>
            <a:stretch/>
          </p:blipFill>
          <p:spPr>
            <a:xfrm>
              <a:off x="3771360" y="5235120"/>
              <a:ext cx="948960" cy="88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Obraz 29" descr=""/>
            <p:cNvPicPr/>
            <p:nvPr/>
          </p:nvPicPr>
          <p:blipFill>
            <a:blip r:embed="rId8"/>
            <a:stretch/>
          </p:blipFill>
          <p:spPr>
            <a:xfrm>
              <a:off x="7777800" y="5336280"/>
              <a:ext cx="1040760" cy="96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Obraz 30" descr=""/>
            <p:cNvPicPr/>
            <p:nvPr/>
          </p:nvPicPr>
          <p:blipFill>
            <a:blip r:embed="rId9"/>
            <a:stretch/>
          </p:blipFill>
          <p:spPr>
            <a:xfrm>
              <a:off x="6117840" y="5292720"/>
              <a:ext cx="115560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Obraz 31" descr=""/>
            <p:cNvPicPr/>
            <p:nvPr/>
          </p:nvPicPr>
          <p:blipFill>
            <a:blip r:embed="rId10"/>
            <a:stretch/>
          </p:blipFill>
          <p:spPr>
            <a:xfrm>
              <a:off x="5250960" y="5157720"/>
              <a:ext cx="115560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Obraz 32" descr=""/>
            <p:cNvPicPr/>
            <p:nvPr/>
          </p:nvPicPr>
          <p:blipFill>
            <a:blip r:embed="rId11"/>
            <a:stretch/>
          </p:blipFill>
          <p:spPr>
            <a:xfrm>
              <a:off x="2812680" y="5271120"/>
              <a:ext cx="1173960" cy="108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75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75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09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75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5472000" y="765000"/>
            <a:ext cx="3495960" cy="1671840"/>
          </a:xfrm>
          <a:prstGeom prst="rect">
            <a:avLst/>
          </a:prstGeom>
          <a:ln w="0">
            <a:noFill/>
          </a:ln>
        </p:spPr>
      </p:pic>
      <p:pic>
        <p:nvPicPr>
          <p:cNvPr id="275" name="Obraz 5" descr=""/>
          <p:cNvPicPr/>
          <p:nvPr/>
        </p:nvPicPr>
        <p:blipFill>
          <a:blip r:embed="rId2"/>
          <a:srcRect l="35875" t="22486" r="2451" b="3104"/>
          <a:stretch/>
        </p:blipFill>
        <p:spPr>
          <a:xfrm>
            <a:off x="5708520" y="2492280"/>
            <a:ext cx="3338640" cy="40528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50560" y="776160"/>
            <a:ext cx="5329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24456"/>
                </a:solidFill>
                <a:latin typeface="Trebuchet MS"/>
              </a:rPr>
              <a:t>Odejmowanie z przekroczeniem progu dziesiątkowego</a:t>
            </a:r>
            <a:br>
              <a:rPr sz="1800"/>
            </a:br>
            <a:r>
              <a:rPr b="0" lang="pl-PL" sz="1800" spc="-1" strike="noStrike">
                <a:solidFill>
                  <a:srgbClr val="424456"/>
                </a:solidFill>
                <a:latin typeface="Trebuchet MS"/>
              </a:rPr>
              <a:t>Wykonaj odejmowanie: </a:t>
            </a:r>
            <a:r>
              <a:rPr b="1" lang="pl-PL" sz="1800" spc="-1" strike="noStrike">
                <a:solidFill>
                  <a:srgbClr val="424456"/>
                </a:solidFill>
                <a:latin typeface="Trebuchet MS"/>
              </a:rPr>
              <a:t>741 – 629</a:t>
            </a:r>
            <a:br>
              <a:rPr sz="2400"/>
            </a:b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1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prawidłowo podpisujemy liczby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2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odejmujemy jedności: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ponieważ od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nie możemy odjąć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9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za tym 1 dziesiątkę zamieniamy na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0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jedności i stąd mamy: </a:t>
            </a:r>
            <a:r>
              <a:rPr b="1" lang="pl-PL" sz="1600" spc="-1" strike="noStrike">
                <a:solidFill>
                  <a:srgbClr val="00b050"/>
                </a:solidFill>
                <a:latin typeface="Georgia"/>
              </a:rPr>
              <a:t>11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 – 9 = 2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 rzędzie jedności zapisuje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 a nad rzędem dziesiątek zapisujemy </a:t>
            </a:r>
            <a:r>
              <a:rPr b="1" lang="pl-PL" sz="1400" spc="-1" strike="noStrike">
                <a:solidFill>
                  <a:srgbClr val="ff0000"/>
                </a:solidFill>
                <a:latin typeface="Georgia"/>
              </a:rPr>
              <a:t>3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3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odejmujemy dziesiątki: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3 – 2 = 1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 różnicy w rzędzie dziesiątek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zapisujemy 1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4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odejmujemy setki: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7 – 6 = 1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i w rzędzie setek zapisujemy 1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Sprawdzenie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12 + 629 = 741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ole tekstowe 6"/>
          <p:cNvSpPr/>
          <p:nvPr/>
        </p:nvSpPr>
        <p:spPr>
          <a:xfrm>
            <a:off x="7161840" y="27082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7 4 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ole tekstowe 7"/>
          <p:cNvSpPr/>
          <p:nvPr/>
        </p:nvSpPr>
        <p:spPr>
          <a:xfrm>
            <a:off x="7161840" y="291636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6 2 9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80" name="Grupa 24"/>
          <p:cNvGrpSpPr/>
          <p:nvPr/>
        </p:nvGrpSpPr>
        <p:grpSpPr>
          <a:xfrm>
            <a:off x="6875640" y="2860560"/>
            <a:ext cx="1081080" cy="398880"/>
            <a:chOff x="6875640" y="2860560"/>
            <a:chExt cx="1081080" cy="398880"/>
          </a:xfrm>
        </p:grpSpPr>
        <p:sp>
          <p:nvSpPr>
            <p:cNvPr id="281" name="Łącznik prostoliniowy 9"/>
            <p:cNvSpPr/>
            <p:nvPr/>
          </p:nvSpPr>
          <p:spPr>
            <a:xfrm>
              <a:off x="6875640" y="321336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2" name="pole tekstowe 11"/>
            <p:cNvSpPr/>
            <p:nvPr/>
          </p:nvSpPr>
          <p:spPr>
            <a:xfrm>
              <a:off x="6958800" y="2860560"/>
              <a:ext cx="2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83" name="Grupa 25"/>
          <p:cNvGrpSpPr/>
          <p:nvPr/>
        </p:nvGrpSpPr>
        <p:grpSpPr>
          <a:xfrm>
            <a:off x="6875640" y="4357800"/>
            <a:ext cx="1081080" cy="582480"/>
            <a:chOff x="6875640" y="4357800"/>
            <a:chExt cx="1081080" cy="582480"/>
          </a:xfrm>
        </p:grpSpPr>
        <p:sp>
          <p:nvSpPr>
            <p:cNvPr id="284" name="pole tekstowe 12"/>
            <p:cNvSpPr/>
            <p:nvPr/>
          </p:nvSpPr>
          <p:spPr>
            <a:xfrm>
              <a:off x="7161840" y="435780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7 4 1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5" name="pole tekstowe 13"/>
            <p:cNvSpPr/>
            <p:nvPr/>
          </p:nvSpPr>
          <p:spPr>
            <a:xfrm>
              <a:off x="7161840" y="457200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6 2 9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6" name="Łącznik prostoliniowy 14"/>
            <p:cNvSpPr/>
            <p:nvPr/>
          </p:nvSpPr>
          <p:spPr>
            <a:xfrm>
              <a:off x="6875640" y="486252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7" name="pole tekstowe 15"/>
            <p:cNvSpPr/>
            <p:nvPr/>
          </p:nvSpPr>
          <p:spPr>
            <a:xfrm>
              <a:off x="6958800" y="4509000"/>
              <a:ext cx="2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88" name="pole tekstowe 16"/>
          <p:cNvSpPr/>
          <p:nvPr/>
        </p:nvSpPr>
        <p:spPr>
          <a:xfrm>
            <a:off x="754272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ole tekstowe 23"/>
          <p:cNvSpPr/>
          <p:nvPr/>
        </p:nvSpPr>
        <p:spPr>
          <a:xfrm>
            <a:off x="714276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pole tekstowe 26"/>
          <p:cNvSpPr/>
          <p:nvPr/>
        </p:nvSpPr>
        <p:spPr>
          <a:xfrm>
            <a:off x="736200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ole tekstowe 18"/>
          <p:cNvSpPr/>
          <p:nvPr/>
        </p:nvSpPr>
        <p:spPr>
          <a:xfrm>
            <a:off x="7486920" y="41511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Trebuchet MS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Łącznik prostoliniowy 4"/>
          <p:cNvSpPr/>
          <p:nvPr/>
        </p:nvSpPr>
        <p:spPr>
          <a:xfrm>
            <a:off x="7404120" y="4471920"/>
            <a:ext cx="179280" cy="200160"/>
          </a:xfrm>
          <a:prstGeom prst="line">
            <a:avLst/>
          </a:prstGeom>
          <a:ln w="31680">
            <a:solidFill>
              <a:srgbClr val="c46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ole tekstowe 27"/>
          <p:cNvSpPr/>
          <p:nvPr/>
        </p:nvSpPr>
        <p:spPr>
          <a:xfrm>
            <a:off x="7320600" y="415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rebuchet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94" name="Grupa 28"/>
          <p:cNvGrpSpPr/>
          <p:nvPr/>
        </p:nvGrpSpPr>
        <p:grpSpPr>
          <a:xfrm>
            <a:off x="6943680" y="5589720"/>
            <a:ext cx="1079640" cy="585720"/>
            <a:chOff x="6943680" y="5589720"/>
            <a:chExt cx="1079640" cy="585720"/>
          </a:xfrm>
        </p:grpSpPr>
        <p:sp>
          <p:nvSpPr>
            <p:cNvPr id="295" name="pole tekstowe 29"/>
            <p:cNvSpPr/>
            <p:nvPr/>
          </p:nvSpPr>
          <p:spPr>
            <a:xfrm>
              <a:off x="7228440" y="558972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1 1 2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96" name="pole tekstowe 30"/>
            <p:cNvSpPr/>
            <p:nvPr/>
          </p:nvSpPr>
          <p:spPr>
            <a:xfrm>
              <a:off x="7236360" y="580716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6 2 9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97" name="Łącznik prostoliniowy 31"/>
            <p:cNvSpPr/>
            <p:nvPr/>
          </p:nvSpPr>
          <p:spPr>
            <a:xfrm>
              <a:off x="6943680" y="6093000"/>
              <a:ext cx="1079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98" name="pole tekstowe 32"/>
            <p:cNvSpPr/>
            <p:nvPr/>
          </p:nvSpPr>
          <p:spPr>
            <a:xfrm>
              <a:off x="7036920" y="5740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99" name="pole tekstowe 35"/>
          <p:cNvSpPr/>
          <p:nvPr/>
        </p:nvSpPr>
        <p:spPr>
          <a:xfrm>
            <a:off x="7225200" y="610884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7 4 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Elipsa 32"/>
          <p:cNvSpPr/>
          <p:nvPr/>
        </p:nvSpPr>
        <p:spPr>
          <a:xfrm>
            <a:off x="7570800" y="4151160"/>
            <a:ext cx="255600" cy="743040"/>
          </a:xfrm>
          <a:prstGeom prst="ellipse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Elipsa 33"/>
          <p:cNvSpPr/>
          <p:nvPr/>
        </p:nvSpPr>
        <p:spPr>
          <a:xfrm flipH="1">
            <a:off x="7346160" y="4146480"/>
            <a:ext cx="273240" cy="744480"/>
          </a:xfrm>
          <a:prstGeom prst="ellipse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Elipsa 34"/>
          <p:cNvSpPr/>
          <p:nvPr/>
        </p:nvSpPr>
        <p:spPr>
          <a:xfrm>
            <a:off x="7199280" y="4302000"/>
            <a:ext cx="216000" cy="630360"/>
          </a:xfrm>
          <a:prstGeom prst="ellipse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75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20" nodeType="afterEffect" fill="hold" presetClass="entr" presetID="22" presetSubtype="8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75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24" nodeType="afterEffect" fill="hold" presetClass="entr" presetID="22" presetSubtype="8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75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28" nodeType="afterEffect" fill="hold" presetClass="entr" presetID="22" presetSubtype="8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75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32" nodeType="afterEffect" fill="hold" presetClass="entr" presetID="22" presetSubtype="8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7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136" nodeType="afterEffect" fill="hold" presetClass="entr" presetID="22" presetSubtype="1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75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75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2" presetSubtype="1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75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2" presetSubtype="1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75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7" nodeType="afterEffect" fill="hold" presetClass="entr" presetID="21" presetSubtype="1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9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7250"/>
                            </p:stCondLst>
                            <p:childTnLst>
                              <p:par>
                                <p:cTn id="161" nodeType="afterEffect" fill="hold" presetClass="entr" presetID="22" presetSubtype="1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75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4" dur="1" fill="hold">
                                    <p:stCondLst>
                                      <p:cond delay="75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8750"/>
                            </p:stCondLst>
                            <p:childTnLst>
                              <p:par>
                                <p:cTn id="166" nodeType="afterEffect" fill="hold" presetClass="entr" presetID="22" presetSubtype="8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75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250"/>
                            </p:stCondLst>
                            <p:childTnLst>
                              <p:par>
                                <p:cTn id="170" nodeType="afterEffect" fill="hold" presetClass="entr" presetID="22" presetSubtype="4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4" nodeType="afterEffect" fill="hold" presetClass="entr" presetID="22" presetSubtype="8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75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75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1" presetSubtype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5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87" nodeType="afterEffect" fill="hold" presetClass="entr" presetID="22" presetSubtype="2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" dur="75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0" dur="1" fill="hold">
                                    <p:stCondLst>
                                      <p:cond delay="75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75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1" presetSubtype="1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9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01" nodeType="afterEffect" fill="hold" presetClass="entr" presetID="22" presetSubtype="8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75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4" dur="1" fill="hold">
                                    <p:stCondLst>
                                      <p:cond delay="75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750"/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75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215" nodeType="afterEffect" fill="hold" presetClass="entr" presetID="22" presetSubtype="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5708520" y="2492280"/>
            <a:ext cx="3338640" cy="405288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5329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Ćwiczenie: </a:t>
            </a:r>
            <a:br>
              <a:rPr sz="2400"/>
            </a:b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wykonaj odejmowanie i sprawdź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547280" y="2249640"/>
            <a:ext cx="71391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343080">
              <a:lnSpc>
                <a:spcPct val="2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327 – 109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52520" indent="-343080">
              <a:lnSpc>
                <a:spcPct val="2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246 – 37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52520" indent="-343080">
              <a:lnSpc>
                <a:spcPct val="2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874 – 56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52520" indent="-343080">
              <a:lnSpc>
                <a:spcPct val="2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625 – 19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06" name="Grupa 6"/>
          <p:cNvGrpSpPr/>
          <p:nvPr/>
        </p:nvGrpSpPr>
        <p:grpSpPr>
          <a:xfrm>
            <a:off x="471600" y="5157720"/>
            <a:ext cx="8346960" cy="1247760"/>
            <a:chOff x="471600" y="5157720"/>
            <a:chExt cx="8346960" cy="1247760"/>
          </a:xfrm>
        </p:grpSpPr>
        <p:pic>
          <p:nvPicPr>
            <p:cNvPr id="307" name="Obraz 7" descr=""/>
            <p:cNvPicPr/>
            <p:nvPr/>
          </p:nvPicPr>
          <p:blipFill>
            <a:blip r:embed="rId2"/>
            <a:stretch/>
          </p:blipFill>
          <p:spPr>
            <a:xfrm>
              <a:off x="471600" y="5336280"/>
              <a:ext cx="1013040" cy="1069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8" name="Grupa 8"/>
            <p:cNvGrpSpPr/>
            <p:nvPr/>
          </p:nvGrpSpPr>
          <p:grpSpPr>
            <a:xfrm>
              <a:off x="1490040" y="5393880"/>
              <a:ext cx="660600" cy="884160"/>
              <a:chOff x="1490040" y="5393880"/>
              <a:chExt cx="660600" cy="884160"/>
            </a:xfrm>
          </p:grpSpPr>
          <p:pic>
            <p:nvPicPr>
              <p:cNvPr id="309" name="Obraz 17" descr=""/>
              <p:cNvPicPr/>
              <p:nvPr/>
            </p:nvPicPr>
            <p:blipFill>
              <a:blip r:embed="rId3"/>
              <a:srcRect l="13908" t="0" r="16795" b="0"/>
              <a:stretch/>
            </p:blipFill>
            <p:spPr>
              <a:xfrm>
                <a:off x="1490040" y="5393880"/>
                <a:ext cx="660600" cy="88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Elipsa 18"/>
              <p:cNvSpPr/>
              <p:nvPr/>
            </p:nvSpPr>
            <p:spPr>
              <a:xfrm>
                <a:off x="1757160" y="5459040"/>
                <a:ext cx="41040" cy="36360"/>
              </a:xfrm>
              <a:prstGeom prst="ellipse">
                <a:avLst/>
              </a:prstGeom>
              <a:solidFill>
                <a:srgbClr val="53548a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311" name="Elipsa 19"/>
              <p:cNvSpPr/>
              <p:nvPr/>
            </p:nvSpPr>
            <p:spPr>
              <a:xfrm>
                <a:off x="1863720" y="5527440"/>
                <a:ext cx="42840" cy="36360"/>
              </a:xfrm>
              <a:prstGeom prst="ellipse">
                <a:avLst/>
              </a:prstGeom>
              <a:solidFill>
                <a:srgbClr val="53548a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312" name="Obraz 9" descr=""/>
            <p:cNvPicPr/>
            <p:nvPr/>
          </p:nvPicPr>
          <p:blipFill>
            <a:blip r:embed="rId4"/>
            <a:stretch/>
          </p:blipFill>
          <p:spPr>
            <a:xfrm>
              <a:off x="2208240" y="5235120"/>
              <a:ext cx="695520" cy="6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Obraz 10" descr=""/>
            <p:cNvPicPr/>
            <p:nvPr/>
          </p:nvPicPr>
          <p:blipFill>
            <a:blip r:embed="rId5"/>
            <a:stretch/>
          </p:blipFill>
          <p:spPr>
            <a:xfrm>
              <a:off x="7063920" y="5269680"/>
              <a:ext cx="1034640" cy="95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Obraz 11" descr=""/>
            <p:cNvPicPr/>
            <p:nvPr/>
          </p:nvPicPr>
          <p:blipFill>
            <a:blip r:embed="rId6"/>
            <a:stretch/>
          </p:blipFill>
          <p:spPr>
            <a:xfrm>
              <a:off x="4623840" y="5513760"/>
              <a:ext cx="879840" cy="81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Obraz 12" descr=""/>
            <p:cNvPicPr/>
            <p:nvPr/>
          </p:nvPicPr>
          <p:blipFill>
            <a:blip r:embed="rId7"/>
            <a:stretch/>
          </p:blipFill>
          <p:spPr>
            <a:xfrm>
              <a:off x="3771360" y="5235120"/>
              <a:ext cx="948960" cy="88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Obraz 13" descr=""/>
            <p:cNvPicPr/>
            <p:nvPr/>
          </p:nvPicPr>
          <p:blipFill>
            <a:blip r:embed="rId8"/>
            <a:stretch/>
          </p:blipFill>
          <p:spPr>
            <a:xfrm>
              <a:off x="7777800" y="5336280"/>
              <a:ext cx="1040760" cy="96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Obraz 14" descr=""/>
            <p:cNvPicPr/>
            <p:nvPr/>
          </p:nvPicPr>
          <p:blipFill>
            <a:blip r:embed="rId9"/>
            <a:stretch/>
          </p:blipFill>
          <p:spPr>
            <a:xfrm>
              <a:off x="6117840" y="5292720"/>
              <a:ext cx="115560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Obraz 15" descr=""/>
            <p:cNvPicPr/>
            <p:nvPr/>
          </p:nvPicPr>
          <p:blipFill>
            <a:blip r:embed="rId10"/>
            <a:stretch/>
          </p:blipFill>
          <p:spPr>
            <a:xfrm>
              <a:off x="5250960" y="5157720"/>
              <a:ext cx="115560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Obraz 16" descr=""/>
            <p:cNvPicPr/>
            <p:nvPr/>
          </p:nvPicPr>
          <p:blipFill>
            <a:blip r:embed="rId11"/>
            <a:stretch/>
          </p:blipFill>
          <p:spPr>
            <a:xfrm>
              <a:off x="2812680" y="5271120"/>
              <a:ext cx="1173960" cy="108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75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with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26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with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30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with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34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with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238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5472000" y="765000"/>
            <a:ext cx="3495960" cy="1671840"/>
          </a:xfrm>
          <a:prstGeom prst="rect">
            <a:avLst/>
          </a:prstGeom>
          <a:ln w="0">
            <a:noFill/>
          </a:ln>
        </p:spPr>
      </p:pic>
      <p:pic>
        <p:nvPicPr>
          <p:cNvPr id="321" name="Obraz 5" descr=""/>
          <p:cNvPicPr/>
          <p:nvPr/>
        </p:nvPicPr>
        <p:blipFill>
          <a:blip r:embed="rId2"/>
          <a:srcRect l="35875" t="22486" r="2451" b="3104"/>
          <a:stretch/>
        </p:blipFill>
        <p:spPr>
          <a:xfrm>
            <a:off x="5708520" y="2492280"/>
            <a:ext cx="3338640" cy="405288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50560" y="776160"/>
            <a:ext cx="5329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24456"/>
                </a:solidFill>
                <a:latin typeface="Trebuchet MS"/>
              </a:rPr>
              <a:t>Odejmowanie z przekroczeniem progu dziesiątkowego</a:t>
            </a:r>
            <a:br>
              <a:rPr sz="1800"/>
            </a:br>
            <a:r>
              <a:rPr b="0" lang="pl-PL" sz="1800" spc="-1" strike="noStrike">
                <a:solidFill>
                  <a:srgbClr val="424456"/>
                </a:solidFill>
                <a:latin typeface="Trebuchet MS"/>
              </a:rPr>
              <a:t>Wykonaj odejmowanie: </a:t>
            </a:r>
            <a:r>
              <a:rPr b="1" lang="pl-PL" sz="1800" spc="-1" strike="noStrike">
                <a:solidFill>
                  <a:srgbClr val="424456"/>
                </a:solidFill>
                <a:latin typeface="Trebuchet MS"/>
              </a:rPr>
              <a:t>842 – 169</a:t>
            </a:r>
            <a:br>
              <a:rPr sz="2400"/>
            </a:b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1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prawidłowo podpisujemy liczby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2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odejmujemy jedności: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ponieważ od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nie możemy odjąć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9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za tym 1 dziesiątkę zamieniamy na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0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jedności i stąd mamy: </a:t>
            </a:r>
            <a:r>
              <a:rPr b="1" lang="pl-PL" sz="1600" spc="-1" strike="noStrike">
                <a:solidFill>
                  <a:srgbClr val="00b050"/>
                </a:solidFill>
                <a:latin typeface="Georgia"/>
              </a:rPr>
              <a:t>12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 – 9 = 3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 rzędzie jedności zapisuje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 a nad rzędem dziesiątek zapisujemy </a:t>
            </a:r>
            <a:r>
              <a:rPr b="1" lang="pl-PL" sz="1600" spc="-1" strike="noStrike">
                <a:solidFill>
                  <a:srgbClr val="ff0000"/>
                </a:solidFill>
                <a:latin typeface="Georgia"/>
              </a:rPr>
              <a:t>3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3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odejmujemy dziesiątki: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ponieważ od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nie możemy odjąć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6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zabieramy z rzędu setek 1 setkę i zamieniamy na dziesiątki: </a:t>
            </a:r>
            <a:r>
              <a:rPr b="1" lang="pl-PL" sz="1600" spc="-1" strike="noStrike">
                <a:solidFill>
                  <a:srgbClr val="ff0000"/>
                </a:solidFill>
                <a:latin typeface="Georgia"/>
              </a:rPr>
              <a:t>13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 – 6 = 7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 rzędzie dziesiątek zapisuje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7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 a nad rzędem setek zapisujemy </a:t>
            </a:r>
            <a:r>
              <a:rPr b="1" lang="pl-PL" sz="1600" spc="-1" strike="noStrike">
                <a:solidFill>
                  <a:srgbClr val="00b0f0"/>
                </a:solidFill>
                <a:latin typeface="Georgia"/>
              </a:rPr>
              <a:t>7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4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odejmujemy setki: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7 – 1 = 6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Sprawdzenie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69 + 673 = 842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ole tekstowe 6"/>
          <p:cNvSpPr/>
          <p:nvPr/>
        </p:nvSpPr>
        <p:spPr>
          <a:xfrm>
            <a:off x="7161840" y="27082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8 4 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ole tekstowe 7"/>
          <p:cNvSpPr/>
          <p:nvPr/>
        </p:nvSpPr>
        <p:spPr>
          <a:xfrm>
            <a:off x="7161840" y="291636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1 6 9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26" name="Grupa 24"/>
          <p:cNvGrpSpPr/>
          <p:nvPr/>
        </p:nvGrpSpPr>
        <p:grpSpPr>
          <a:xfrm>
            <a:off x="6875640" y="2860560"/>
            <a:ext cx="1081080" cy="398880"/>
            <a:chOff x="6875640" y="2860560"/>
            <a:chExt cx="1081080" cy="398880"/>
          </a:xfrm>
        </p:grpSpPr>
        <p:sp>
          <p:nvSpPr>
            <p:cNvPr id="327" name="Łącznik prostoliniowy 9"/>
            <p:cNvSpPr/>
            <p:nvPr/>
          </p:nvSpPr>
          <p:spPr>
            <a:xfrm>
              <a:off x="6875640" y="321336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28" name="pole tekstowe 11"/>
            <p:cNvSpPr/>
            <p:nvPr/>
          </p:nvSpPr>
          <p:spPr>
            <a:xfrm>
              <a:off x="6958800" y="2860560"/>
              <a:ext cx="2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329" name="Grupa 25"/>
          <p:cNvGrpSpPr/>
          <p:nvPr/>
        </p:nvGrpSpPr>
        <p:grpSpPr>
          <a:xfrm>
            <a:off x="6875640" y="4357800"/>
            <a:ext cx="1081080" cy="582480"/>
            <a:chOff x="6875640" y="4357800"/>
            <a:chExt cx="1081080" cy="582480"/>
          </a:xfrm>
        </p:grpSpPr>
        <p:sp>
          <p:nvSpPr>
            <p:cNvPr id="330" name="pole tekstowe 12"/>
            <p:cNvSpPr/>
            <p:nvPr/>
          </p:nvSpPr>
          <p:spPr>
            <a:xfrm>
              <a:off x="7161840" y="435780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8 4 2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31" name="pole tekstowe 13"/>
            <p:cNvSpPr/>
            <p:nvPr/>
          </p:nvSpPr>
          <p:spPr>
            <a:xfrm>
              <a:off x="7161840" y="457200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1 6 9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32" name="Łącznik prostoliniowy 14"/>
            <p:cNvSpPr/>
            <p:nvPr/>
          </p:nvSpPr>
          <p:spPr>
            <a:xfrm>
              <a:off x="6875640" y="486252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33" name="pole tekstowe 15"/>
            <p:cNvSpPr/>
            <p:nvPr/>
          </p:nvSpPr>
          <p:spPr>
            <a:xfrm>
              <a:off x="6958800" y="4509000"/>
              <a:ext cx="2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334" name="pole tekstowe 16"/>
          <p:cNvSpPr/>
          <p:nvPr/>
        </p:nvSpPr>
        <p:spPr>
          <a:xfrm>
            <a:off x="754272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ole tekstowe 23"/>
          <p:cNvSpPr/>
          <p:nvPr/>
        </p:nvSpPr>
        <p:spPr>
          <a:xfrm>
            <a:off x="714276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ole tekstowe 26"/>
          <p:cNvSpPr/>
          <p:nvPr/>
        </p:nvSpPr>
        <p:spPr>
          <a:xfrm>
            <a:off x="736200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ole tekstowe 18"/>
          <p:cNvSpPr/>
          <p:nvPr/>
        </p:nvSpPr>
        <p:spPr>
          <a:xfrm>
            <a:off x="7499880" y="41511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b050"/>
                </a:solidFill>
                <a:latin typeface="Trebuchet MS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Łącznik prostoliniowy 4"/>
          <p:cNvSpPr/>
          <p:nvPr/>
        </p:nvSpPr>
        <p:spPr>
          <a:xfrm>
            <a:off x="7404120" y="4471920"/>
            <a:ext cx="179280" cy="200160"/>
          </a:xfrm>
          <a:prstGeom prst="line">
            <a:avLst/>
          </a:prstGeom>
          <a:ln w="31680">
            <a:solidFill>
              <a:srgbClr val="c46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ole tekstowe 27"/>
          <p:cNvSpPr/>
          <p:nvPr/>
        </p:nvSpPr>
        <p:spPr>
          <a:xfrm>
            <a:off x="7326720" y="415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Trebuchet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40" name="Grupa 28"/>
          <p:cNvGrpSpPr/>
          <p:nvPr/>
        </p:nvGrpSpPr>
        <p:grpSpPr>
          <a:xfrm>
            <a:off x="6943680" y="5589720"/>
            <a:ext cx="1079640" cy="585720"/>
            <a:chOff x="6943680" y="5589720"/>
            <a:chExt cx="1079640" cy="585720"/>
          </a:xfrm>
        </p:grpSpPr>
        <p:sp>
          <p:nvSpPr>
            <p:cNvPr id="341" name="pole tekstowe 29"/>
            <p:cNvSpPr/>
            <p:nvPr/>
          </p:nvSpPr>
          <p:spPr>
            <a:xfrm>
              <a:off x="7228440" y="558972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1 6 9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42" name="pole tekstowe 30"/>
            <p:cNvSpPr/>
            <p:nvPr/>
          </p:nvSpPr>
          <p:spPr>
            <a:xfrm>
              <a:off x="7236360" y="580716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6 7 3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43" name="Łącznik prostoliniowy 31"/>
            <p:cNvSpPr/>
            <p:nvPr/>
          </p:nvSpPr>
          <p:spPr>
            <a:xfrm>
              <a:off x="6943680" y="6093000"/>
              <a:ext cx="1079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44" name="pole tekstowe 32"/>
            <p:cNvSpPr/>
            <p:nvPr/>
          </p:nvSpPr>
          <p:spPr>
            <a:xfrm>
              <a:off x="7036920" y="5740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345" name="pole tekstowe 35"/>
          <p:cNvSpPr/>
          <p:nvPr/>
        </p:nvSpPr>
        <p:spPr>
          <a:xfrm>
            <a:off x="7647480" y="6105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ole tekstowe 33"/>
          <p:cNvSpPr/>
          <p:nvPr/>
        </p:nvSpPr>
        <p:spPr>
          <a:xfrm>
            <a:off x="7148880" y="4149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b0f0"/>
                </a:solidFill>
                <a:latin typeface="Trebuchet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ole tekstowe 34"/>
          <p:cNvSpPr/>
          <p:nvPr/>
        </p:nvSpPr>
        <p:spPr>
          <a:xfrm>
            <a:off x="7425000" y="5408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b05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ole tekstowe 36"/>
          <p:cNvSpPr/>
          <p:nvPr/>
        </p:nvSpPr>
        <p:spPr>
          <a:xfrm>
            <a:off x="7209360" y="54230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b0f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ole tekstowe 37"/>
          <p:cNvSpPr/>
          <p:nvPr/>
        </p:nvSpPr>
        <p:spPr>
          <a:xfrm>
            <a:off x="7416720" y="6105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ole tekstowe 38"/>
          <p:cNvSpPr/>
          <p:nvPr/>
        </p:nvSpPr>
        <p:spPr>
          <a:xfrm>
            <a:off x="7198560" y="6105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Elipsa 32"/>
          <p:cNvSpPr/>
          <p:nvPr/>
        </p:nvSpPr>
        <p:spPr>
          <a:xfrm>
            <a:off x="7599240" y="4152960"/>
            <a:ext cx="254160" cy="744480"/>
          </a:xfrm>
          <a:prstGeom prst="ellipse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Elipsa 39"/>
          <p:cNvSpPr/>
          <p:nvPr/>
        </p:nvSpPr>
        <p:spPr>
          <a:xfrm>
            <a:off x="7369200" y="4156200"/>
            <a:ext cx="253800" cy="742680"/>
          </a:xfrm>
          <a:prstGeom prst="ellipse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Elipsa 40"/>
          <p:cNvSpPr/>
          <p:nvPr/>
        </p:nvSpPr>
        <p:spPr>
          <a:xfrm>
            <a:off x="7174080" y="4152960"/>
            <a:ext cx="255600" cy="743040"/>
          </a:xfrm>
          <a:prstGeom prst="ellipse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75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49" nodeType="afterEffect" fill="hold" presetClass="entr" presetID="2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75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75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257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75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1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75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265" nodeType="afterEffect" fill="hold" presetClass="entr" presetID="2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75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75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2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75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78" nodeType="afterEffect" fill="hold" presetClass="entr" presetID="2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75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2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6" nodeType="afterEffect" fill="hold" presetClass="entr" presetID="2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75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290" nodeType="afterEffect" fill="hold" presetClass="entr" presetID="21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2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8250"/>
                            </p:stCondLst>
                            <p:childTnLst>
                              <p:par>
                                <p:cTn id="294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75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7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99" nodeType="afterEffect" fill="hold" presetClass="entr" presetID="2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75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750"/>
                            </p:stCondLst>
                            <p:childTnLst>
                              <p:par>
                                <p:cTn id="303" nodeType="afterEffect" fill="hold" presetClass="entr" presetID="2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75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75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16" nodeType="afterEffect" fill="hold" presetClass="entr" presetID="2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750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0" nodeType="afterEffect" fill="hold" presetClass="entr" presetID="21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2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4" nodeType="afterEffect" fill="hold" presetClass="entr" presetID="2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75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7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7250"/>
                            </p:stCondLst>
                            <p:childTnLst>
                              <p:par>
                                <p:cTn id="329" nodeType="afterEffect" fill="hold" presetClass="entr" presetID="2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750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33" nodeType="afterEffect" fill="hold" presetClass="entr" presetID="2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75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750"/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21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4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6" nodeType="afterEffect" fill="hold" presetClass="entr" presetID="2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75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9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351" nodeType="afterEffect" fill="hold" presetClass="entr" presetID="2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750"/>
                                        <p:tgtEl>
                                          <p:spTgt spid="3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5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75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359" nodeType="afterEffect" fill="hold" presetClass="entr" presetID="22" presetSubtype="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3" nodeType="afterEffect" fill="hold" presetClass="entr" presetID="22" presetSubtype="8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8750"/>
                            </p:stCondLst>
                            <p:childTnLst>
                              <p:par>
                                <p:cTn id="367" nodeType="afterEffect" fill="hold" presetClass="entr" presetID="22" presetSubtype="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1" nodeType="afterEffect" fill="hold" presetClass="entr" presetID="22" presetSubtype="8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0750"/>
                            </p:stCondLst>
                            <p:childTnLst>
                              <p:par>
                                <p:cTn id="375" nodeType="afterEffect" fill="hold" presetClass="entr" presetID="22" presetSubtype="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5708520" y="2492280"/>
            <a:ext cx="3338640" cy="405288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5329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Ćwiczenie: </a:t>
            </a:r>
            <a:br>
              <a:rPr sz="2400"/>
            </a:b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wykonaj odejmowanie i sprawdź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547280" y="2249640"/>
            <a:ext cx="71391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343080">
              <a:lnSpc>
                <a:spcPct val="2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677 – 498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52520" indent="-343080">
              <a:lnSpc>
                <a:spcPct val="2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325 – 167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52520" indent="-343080">
              <a:lnSpc>
                <a:spcPct val="2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951 – 768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52520" indent="-343080">
              <a:lnSpc>
                <a:spcPct val="2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522 - 34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57" name="Grupa 6"/>
          <p:cNvGrpSpPr/>
          <p:nvPr/>
        </p:nvGrpSpPr>
        <p:grpSpPr>
          <a:xfrm>
            <a:off x="471600" y="5157720"/>
            <a:ext cx="8346960" cy="1247760"/>
            <a:chOff x="471600" y="5157720"/>
            <a:chExt cx="8346960" cy="1247760"/>
          </a:xfrm>
        </p:grpSpPr>
        <p:pic>
          <p:nvPicPr>
            <p:cNvPr id="358" name="Obraz 7" descr=""/>
            <p:cNvPicPr/>
            <p:nvPr/>
          </p:nvPicPr>
          <p:blipFill>
            <a:blip r:embed="rId2"/>
            <a:stretch/>
          </p:blipFill>
          <p:spPr>
            <a:xfrm>
              <a:off x="471600" y="5336280"/>
              <a:ext cx="1013040" cy="1069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9" name="Grupa 8"/>
            <p:cNvGrpSpPr/>
            <p:nvPr/>
          </p:nvGrpSpPr>
          <p:grpSpPr>
            <a:xfrm>
              <a:off x="1490040" y="5393880"/>
              <a:ext cx="660600" cy="884160"/>
              <a:chOff x="1490040" y="5393880"/>
              <a:chExt cx="660600" cy="884160"/>
            </a:xfrm>
          </p:grpSpPr>
          <p:pic>
            <p:nvPicPr>
              <p:cNvPr id="360" name="Obraz 17" descr=""/>
              <p:cNvPicPr/>
              <p:nvPr/>
            </p:nvPicPr>
            <p:blipFill>
              <a:blip r:embed="rId3"/>
              <a:srcRect l="13908" t="0" r="16795" b="0"/>
              <a:stretch/>
            </p:blipFill>
            <p:spPr>
              <a:xfrm>
                <a:off x="1490040" y="5393880"/>
                <a:ext cx="660600" cy="88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Elipsa 18"/>
              <p:cNvSpPr/>
              <p:nvPr/>
            </p:nvSpPr>
            <p:spPr>
              <a:xfrm>
                <a:off x="1757160" y="5459040"/>
                <a:ext cx="41040" cy="36360"/>
              </a:xfrm>
              <a:prstGeom prst="ellipse">
                <a:avLst/>
              </a:prstGeom>
              <a:solidFill>
                <a:srgbClr val="53548a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362" name="Elipsa 19"/>
              <p:cNvSpPr/>
              <p:nvPr/>
            </p:nvSpPr>
            <p:spPr>
              <a:xfrm>
                <a:off x="1863720" y="5527440"/>
                <a:ext cx="42840" cy="36360"/>
              </a:xfrm>
              <a:prstGeom prst="ellipse">
                <a:avLst/>
              </a:prstGeom>
              <a:solidFill>
                <a:srgbClr val="53548a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363" name="Obraz 9" descr=""/>
            <p:cNvPicPr/>
            <p:nvPr/>
          </p:nvPicPr>
          <p:blipFill>
            <a:blip r:embed="rId4"/>
            <a:stretch/>
          </p:blipFill>
          <p:spPr>
            <a:xfrm>
              <a:off x="2208240" y="5235120"/>
              <a:ext cx="695520" cy="6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Obraz 10" descr=""/>
            <p:cNvPicPr/>
            <p:nvPr/>
          </p:nvPicPr>
          <p:blipFill>
            <a:blip r:embed="rId5"/>
            <a:stretch/>
          </p:blipFill>
          <p:spPr>
            <a:xfrm>
              <a:off x="7063920" y="5269680"/>
              <a:ext cx="1034640" cy="95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Obraz 11" descr=""/>
            <p:cNvPicPr/>
            <p:nvPr/>
          </p:nvPicPr>
          <p:blipFill>
            <a:blip r:embed="rId6"/>
            <a:stretch/>
          </p:blipFill>
          <p:spPr>
            <a:xfrm>
              <a:off x="4623840" y="5513760"/>
              <a:ext cx="879840" cy="81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Obraz 12" descr=""/>
            <p:cNvPicPr/>
            <p:nvPr/>
          </p:nvPicPr>
          <p:blipFill>
            <a:blip r:embed="rId7"/>
            <a:stretch/>
          </p:blipFill>
          <p:spPr>
            <a:xfrm>
              <a:off x="3771360" y="5235120"/>
              <a:ext cx="948960" cy="88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Obraz 13" descr=""/>
            <p:cNvPicPr/>
            <p:nvPr/>
          </p:nvPicPr>
          <p:blipFill>
            <a:blip r:embed="rId8"/>
            <a:stretch/>
          </p:blipFill>
          <p:spPr>
            <a:xfrm>
              <a:off x="7777800" y="5336280"/>
              <a:ext cx="1040760" cy="96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Obraz 14" descr=""/>
            <p:cNvPicPr/>
            <p:nvPr/>
          </p:nvPicPr>
          <p:blipFill>
            <a:blip r:embed="rId9"/>
            <a:stretch/>
          </p:blipFill>
          <p:spPr>
            <a:xfrm>
              <a:off x="6117840" y="5292720"/>
              <a:ext cx="115560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Obraz 15" descr=""/>
            <p:cNvPicPr/>
            <p:nvPr/>
          </p:nvPicPr>
          <p:blipFill>
            <a:blip r:embed="rId10"/>
            <a:stretch/>
          </p:blipFill>
          <p:spPr>
            <a:xfrm>
              <a:off x="5250960" y="5157720"/>
              <a:ext cx="115560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Obraz 16" descr=""/>
            <p:cNvPicPr/>
            <p:nvPr/>
          </p:nvPicPr>
          <p:blipFill>
            <a:blip r:embed="rId11"/>
            <a:stretch/>
          </p:blipFill>
          <p:spPr>
            <a:xfrm>
              <a:off x="2812680" y="5271120"/>
              <a:ext cx="1173960" cy="108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75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with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386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with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90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with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94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with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398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2:59:35Z</dcterms:created>
  <dc:creator>Ania</dc:creator>
  <dc:description/>
  <dc:language>en-US</dc:language>
  <cp:lastModifiedBy>Ania</cp:lastModifiedBy>
  <dcterms:modified xsi:type="dcterms:W3CDTF">2013-09-02T09:35:39Z</dcterms:modified>
  <cp:revision>61</cp:revision>
  <dc:subject/>
  <dc:title>Prezentacja programu PowerPoint</dc:title>
</cp:coreProperties>
</file>